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59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59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59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65280" y="41659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65280" y="41659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0600" y="41659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38240" y="41659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6E52-E3DA-4F85-847F-83DCC313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661-7DDE-4A5B-A8FA-350C24A6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4DC-A838-4160-AF1C-2DA75538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5AE-7EFC-49A4-B398-A328804D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94B-B0C0-4B1B-B1D3-8CBCF10B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DC2C-C439-4C70-9862-449F1474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802E-8CD5-4C11-8E31-46D06AEC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65280" y="41659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FFA-3600-4047-BCD4-140329F3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165A-B66E-46AA-985D-6D133490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24A6-1B82-405B-9050-CB734698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65280" y="41659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0653-2EC1-44C5-9F17-D75080EC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10600" y="41659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38240" y="41659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6C1-E377-497B-9002-A4E797E5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59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15636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1722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BD6D-6A9C-44BB-86AF-02B8D8C3AB7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61320" y="61340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1430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59436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37840" y="5334120"/>
            <a:ext cx="241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itle,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9 Pearson Education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886200" y="6286680"/>
            <a:ext cx="113040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7473-85EE-417E-A205-3AED1B1592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90160" y="609120"/>
            <a:ext cx="79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Chapter 3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 Reviewing the Litera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Define the purpose of a review of       related literature in quantitative and qualitative stud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Find primary and secondary sources       for a literature review using indexes, databases, the internet, and library   stack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Qualitative Research Review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Demonstrates underling assumptions    critical to the research ques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Demonstrates that the researcher is knowledgeable about relate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Helps researcher identify gaps in the        body of literature and may provide     rationale for additional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Assists in refining research questions        and guides working hypothe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Steps for Conducting a Review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Identify and make a list of keywords to guide your literature 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Using your keywords, locate primary       and secondary sour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Evaluate the quality of your sour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Abstract your sour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Analyze and organize your sources using a literature matri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Write the literature revie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Identifying Keyword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Identifying keyw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Make a list of keywords that will guide your sear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Consult indexes to identify keywor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Consider logical keywords and alterna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Keywords can help narrow a literature       sear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For example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read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is too broad but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reading strategie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an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 elementary stude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 would be         more narro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Identify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Identifying sources: There are a    range of sources avail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Primary sources are prefer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Contain first-hand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e.g., articles published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American Educational Research Jour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Identify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Secondary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Second-hand information—not written           by the person who did the study.  Some           start by reviewing these fir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e.g., Handbooks, encyclopedias, and             reviews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Review of Educational      Re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Handbook of Research on    Te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Locat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Identifying sources: Searching for books on your top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Become familiar with the libr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Know what sources of help exist and use      them when you need 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Locat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Use the library catalo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Use Boolean opera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AND and NOT narrow search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OR broadens the sear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Use field qualifiers such as date ranges,            authors, or publicatio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038480" y="1981080"/>
            <a:ext cx="3200400" cy="2895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124080" y="2286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562720" y="2286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343400" y="3124080"/>
            <a:ext cx="352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1299600" y="990720"/>
            <a:ext cx="296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 Technology an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50292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chnology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cienc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represented by A, B, and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 represents the shared articles with both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chnology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1981080"/>
            <a:ext cx="3200400" cy="2895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Locat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Identifying sources: Consulting computer data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Identify key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Select database(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e.g., ERIC, Education Index, PsycINFO, Dissertation abstrac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Specify your search strateg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Locat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Identifying sources: Searching the      Internet and World Wide We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Very ext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Very cu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Quality control is lack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So much content it may be         overwhelming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There are many websites for educational researcher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CSTEEP, NCES, US Department of Edu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Chapter 3: Reviewing the Litera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Evaluate the sources to determine         their appropriateness as part of the literature revie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Describe the steps involved in       analyzing, organizing, and reporting           a review of the litera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Define meta-analysis and describe         the process for conducting a meta- analys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Locat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Identifying sources: Membership        in professional organiz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Professional organizations can           assist in your search for current   literatur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e.g., NCTM, AERA, APA, ASCD, I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Evaluat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Evaluating your sources:                     A series of questions to ask yourself   to determine if the source is appropriate for your purpo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What was the problem statement of      the stud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Is this source related to your research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Who was studi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Examine the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Evaluat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Where was the source publish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Refereed journal? Person’s opin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When was the research conduct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Recent, up to dat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How was the study conduct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Objective and impartia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Is evidence provid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Appropriate data colle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Abstract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Abstracting your 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Abstracts are summaries that         describe hypotheses, procedures, conclus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When you abstract, you review, summarize, and classify your    referen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Abstract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Abstracting your 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Keep these notes organized and        well-guarded and keep a copy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A literature matrix can help your organiz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Steps for Abstract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 Read the abstract or summary to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determine relev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 Skim the entire article and make menta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notes of the main poi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 Write a complete bibliographic refer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 Classify and code the artic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3880" indent="-44784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Develop codes that are meaningful to yo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Steps for Abstract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5.  Abstract or summarize the sour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Include the main points of an author’s opin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State the problem, procedures, main find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Note any special aspects relevant to your     study or suggestions made by the auth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Steps for Abstract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6.  Include any thoughts that come to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your mi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Note disagreements, questions you may       have, and anything that is not clear to yo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7.  Indicate statements that are quotes o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paraphrases to assist you 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avoiding plagiaris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Include page nu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Analyzing, Organizing, and   Reporting the Litera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Some students are intimidated to start     writing a literature review largely due to a lack of experi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Provide referential support for your    state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Consistently define your ter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Make an out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Fit sources within your out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Analyzing, Organizing, and   Reporting the Litera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Analyze similarities and differences among the sour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Provide a meaningful review of previous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Include contradictory stud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Review least connected references first and then move to most relev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Conclude the review with a brief summary of the literature and its implic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Review of Related Litera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Definition, purpose, and sco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The review of related literature        involves systematic identification,     location, and analysis of documents containing information related to the research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May include documents such as articles, dissertations, review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09120"/>
            <a:ext cx="77929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Analyzing, Organizing, and   Reporting the Litera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Meta-analysis is a statistical approach for summarizing the effects found in many quantitative studies that have investigated the same or a similar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Decreases subj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Sometimes more efficient than traditional revie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Meta-analysis uses a measure of relation called an effect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Effect sizes range from small (e.g., .25) to large (e.g., .8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Review of Related Litera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Definition, purpose, and sco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Some meaningful studies are        conducted in areas where little        previous research exists, and some meaningful problems remain in         heavily-researched areas of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Review of Related Litera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Definition, purpose, and sco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Purposes:  To determine what has       already been done on your top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Provides information so you don’t unintentionally duplicate existing resear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Provides information to help you         adequately frame your study in what has     been conducted before you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Review of Related Litera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Definition, purpose, and sco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Purposes:  To determine what has       already been done on your top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Helps you to identify research strategies       and data collection mechanisms that have     and have not worked in previous stud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Facilitates your ability to interpret your    find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Review of Related Litera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Definition, purpose, and sco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Scope:  Determining scope is     challenging for beginning researchers.        It is difficult to determine what to       include and what not to include in the literature review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Review of Related Litera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Definition, purpose, and sco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Suggestions for adequate scop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Avoid the temptation to see how         everything you find is rel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When there is a large existing database,   review only those directly related to your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When there are few existing studies, cast      the net a little larger and include previous   work related in a meaningful way to your problem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Qualitative Research Review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Qualitative researchers may not review        the literature in-depth before they begin         a research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Qualitative research topics emerge over  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Reviewing too much literature may       compromise the inductive process of qualitative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5T20:12:17Z</dcterms:modified>
  <cp:revision>44</cp:revision>
  <dc:subject/>
  <dc:title>AutoCAD Architecture 2008: Part I: Getting Started</dc:title>
</cp:coreProperties>
</file>